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4.png" ContentType="image/pn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FD3B-DF46-41A2-B85C-0AA6EED8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AB36-F168-4753-A441-BC450D9A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6825-D348-419D-9968-CB8C240DB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330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06200"/>
            <a:ext cx="250236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C579-53C2-453D-A478-59B56366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2076-0648-48D8-B2C2-6A0B3F80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0911-9095-473A-9C5A-42066247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B091-EE4A-45F2-828E-2A78913C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C028-39E1-4AB5-92DF-2A7E9FB2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4360" y="348840"/>
            <a:ext cx="483372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72D4-D5B5-4559-84A9-ABCFFFA9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7BDA-A056-43D7-8964-1229CA28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06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C40-30E5-4575-849B-2D8FEF8E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330200"/>
            <a:ext cx="37926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06200"/>
            <a:ext cx="7772400" cy="21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B912-6725-428D-84CD-A02C3464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1"/>
          <p:cNvPicPr/>
          <p:nvPr/>
        </p:nvPicPr>
        <p:blipFill>
          <a:blip r:embed="rId2"/>
          <a:stretch/>
        </p:blipFill>
        <p:spPr>
          <a:xfrm>
            <a:off x="15840" y="0"/>
            <a:ext cx="9112320" cy="1049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4360" y="348840"/>
            <a:ext cx="4833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30200"/>
            <a:ext cx="77724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716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31B6-EB3D-4A59-BEC4-9B80909C2B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3" descr="图片1223"/>
          <p:cNvPicPr/>
          <p:nvPr/>
        </p:nvPicPr>
        <p:blipFill>
          <a:blip r:embed="rId3"/>
          <a:stretch/>
        </p:blipFill>
        <p:spPr>
          <a:xfrm>
            <a:off x="6804000" y="6078600"/>
            <a:ext cx="2089080" cy="590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8"/>
          <p:cNvSpPr/>
          <p:nvPr/>
        </p:nvSpPr>
        <p:spPr>
          <a:xfrm>
            <a:off x="468360" y="247824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仿宋_GB2312"/>
              </a:rPr>
              <a:t>课程直播教师用户操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以对摄像头的开启、话筒及音量进行控制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备准备好之后点“开始讲课”按钮，开始直播讲课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击“开始录制”，将直播内容录制下来以便以后观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图片 3" descr=""/>
          <p:cNvPicPr/>
          <p:nvPr/>
        </p:nvPicPr>
        <p:blipFill>
          <a:blip r:embed="rId1"/>
          <a:srcRect l="0" t="41347" r="0" b="0"/>
          <a:stretch/>
        </p:blipFill>
        <p:spPr>
          <a:xfrm>
            <a:off x="971640" y="2027160"/>
            <a:ext cx="2695320" cy="12574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" descr=""/>
          <p:cNvPicPr/>
          <p:nvPr/>
        </p:nvPicPr>
        <p:blipFill>
          <a:blip r:embed="rId2"/>
          <a:stretch/>
        </p:blipFill>
        <p:spPr>
          <a:xfrm>
            <a:off x="971640" y="4221000"/>
            <a:ext cx="664524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播时可以暂停直播，点击“正在讲课”按钮，就可以打开暂停直播选项，暂停后再点恢复直播按钮，恢复直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826920" y="2565360"/>
            <a:ext cx="66470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共享文档”可以进行打开文档，新建白板等操作。点击文件夹图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一个文档，文档格式主要有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g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等。电脑上仅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没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动画不支持。目前暂不支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演示动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图片 3" descr=""/>
          <p:cNvPicPr/>
          <p:nvPr/>
        </p:nvPicPr>
        <p:blipFill>
          <a:blip r:embed="rId1"/>
          <a:stretch/>
        </p:blipFill>
        <p:spPr>
          <a:xfrm>
            <a:off x="900000" y="3500280"/>
            <a:ext cx="6645240" cy="20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打开的文档学生可以同步看到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图片 4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7353360" cy="44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桌面共享”按钮，可以将自己在电脑上的操作过程，共享给学生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图片 4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664704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启动共享”，然后选择“桌面共享”，最后点“共享”按钮，将自己在电脑上的操作工作共享给学生。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971640" y="2852640"/>
            <a:ext cx="47340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桌面共享后，如果要停止共享，点击“停止共享”按钮，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图片 4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664524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老师可以通过点击“问答列表”功能查看和回复学生提出的问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图片 3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612468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点击“文件下载”，可以上传本次直播相关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及其他一些素材文件，共观看直播的学生下载，如下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图片 4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664524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在直播过程中，禁止学生提问、聊天操作，点击右上角齿轮图标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352440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062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首先接好话筒、摄像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-4572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浏览器中打开指定的直播地址，如下图，输入各项后点击“进入课堂”按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002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306440" y="404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教师操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控制选项”，在“控制选项”下级菜单中，选择“允许聊天”、“允许提问”。（有√表示启用，没有√表面禁用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图片 4" descr=""/>
          <p:cNvPicPr/>
          <p:nvPr/>
        </p:nvPicPr>
        <p:blipFill>
          <a:blip r:embed="rId1"/>
          <a:stretch/>
        </p:blipFill>
        <p:spPr>
          <a:xfrm>
            <a:off x="900000" y="2781360"/>
            <a:ext cx="6645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1268280"/>
            <a:ext cx="2987640" cy="5000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90216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手机进入直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3059280" y="1197000"/>
            <a:ext cx="3084480" cy="496872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3564000" y="4076640"/>
            <a:ext cx="2087640" cy="122400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2808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</a:rPr>
              <a:t>谢谢大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0" y="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图片122"/>
          <p:cNvPicPr/>
          <p:nvPr/>
        </p:nvPicPr>
        <p:blipFill>
          <a:blip r:embed="rId1"/>
          <a:stretch/>
        </p:blipFill>
        <p:spPr>
          <a:xfrm>
            <a:off x="0" y="4541760"/>
            <a:ext cx="9144000" cy="2316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图片1223"/>
          <p:cNvPicPr/>
          <p:nvPr/>
        </p:nvPicPr>
        <p:blipFill>
          <a:blip r:embed="rId2"/>
          <a:stretch/>
        </p:blipFill>
        <p:spPr>
          <a:xfrm>
            <a:off x="179280" y="307800"/>
            <a:ext cx="2895840" cy="817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"/>
          <p:cNvSpPr/>
          <p:nvPr/>
        </p:nvSpPr>
        <p:spPr>
          <a:xfrm>
            <a:off x="6526080" y="3284640"/>
            <a:ext cx="24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教育信息技术中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曹守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电话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31-828219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8496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1249200" y="1757520"/>
            <a:ext cx="664560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登录成功之后如下图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图片 5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664524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当前电脑第一次进行直播，没有安装客户端工具，需要点击“下载启动器”按钮，下载客户端工具并进行安装，安装完成后点击“点击启动”按钮，启动客户端。客户端安装之后，以后再登录（在当前电脑上）只需点击“点击启动”按钮，启动客户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图片 6" descr=""/>
          <p:cNvPicPr/>
          <p:nvPr/>
        </p:nvPicPr>
        <p:blipFill>
          <a:blip r:embed="rId1"/>
          <a:stretch/>
        </p:blipFill>
        <p:spPr>
          <a:xfrm>
            <a:off x="8317080" y="2133720"/>
            <a:ext cx="442800" cy="2156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664524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280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启动成功之后界面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图片 4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664524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403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正式直播之前要检查自己的麦克风和摄像头是否正常，点击左下角“设置”按钮，如下图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先检查扬声器能否正常播放声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然后点击“麦克风”，检查话筒是否正常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最后点击“视频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900000" y="3213000"/>
            <a:ext cx="2714760" cy="590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5" descr=""/>
          <p:cNvPicPr/>
          <p:nvPr/>
        </p:nvPicPr>
        <p:blipFill>
          <a:blip r:embed="rId2"/>
          <a:stretch/>
        </p:blipFill>
        <p:spPr>
          <a:xfrm>
            <a:off x="4356000" y="1596960"/>
            <a:ext cx="47721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图片 1" descr=""/>
          <p:cNvPicPr/>
          <p:nvPr/>
        </p:nvPicPr>
        <p:blipFill>
          <a:blip r:embed="rId1"/>
          <a:stretch/>
        </p:blipFill>
        <p:spPr>
          <a:xfrm>
            <a:off x="2209680" y="1504800"/>
            <a:ext cx="4724640" cy="38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2190600" y="1476360"/>
            <a:ext cx="476280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8:23:19Z</dcterms:created>
  <dc:creator>MacX.cn</dc:creator>
  <dc:description/>
  <dc:language>en-US</dc:language>
  <cp:lastModifiedBy>JSZX</cp:lastModifiedBy>
  <dcterms:modified xsi:type="dcterms:W3CDTF">2019-03-18T08:46:10Z</dcterms:modified>
  <cp:revision>814</cp:revision>
  <dc:subject/>
  <dc:title>中央广播电视大学开放教育 2009-2010年度招生工作报告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