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882-9D33-46B8-B1C9-611DD12D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9CF-2B36-44D6-B119-DE18E79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2C5-D95E-4DC9-8F83-364582CA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D06-CC6E-41CF-A737-F4697296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02C-FD04-41AA-885D-1B604EB1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09B-4B20-40C8-AD6A-5A01776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894-225F-4D53-B19C-1AB1B23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5E4-9624-41DD-AD7F-C0AF7292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0B8-9543-4C51-8BB3-DB3A185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358-6A7D-4FC7-847A-D815775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AE5-B8B1-4F48-9C13-607421B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93A-F7DA-4B5B-AFA1-E5D1C86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740-211E-4F43-9B38-7350F52FF7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</a:rPr>
              <a:t>谢谢大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6526080" y="3284640"/>
            <a:ext cx="24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育信息技术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曹守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31-8282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8496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JSZX</cp:lastModifiedBy>
  <dcterms:modified xsi:type="dcterms:W3CDTF">2019-03-18T08:46:10Z</dcterms:modified>
  <cp:revision>814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