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F51-F25B-4B37-B24A-097A1E02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06200"/>
            <a:ext cx="77724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739-88C6-4F96-B1C7-798CF46B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106-5783-4830-A441-87E4F5CC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30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30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06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06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06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8C10-1532-45DC-930D-1AE6784D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3020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D0A-B0EF-4CE4-B0C8-A426A166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C8F5-E2E0-4684-8515-82F0263F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C72-5963-4FB6-A8FF-6268903B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DFD-A92B-4F37-BAA1-ED4263D3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4360" y="348840"/>
            <a:ext cx="483372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8EB-5729-4B7A-9AF5-7A96E548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ABE1-AADC-49EF-AB5A-B445984C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C5B-431C-4B7C-99AE-9366FF5A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77724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24D-38ED-442A-8D1C-154945FC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1"/>
          <p:cNvPicPr/>
          <p:nvPr/>
        </p:nvPicPr>
        <p:blipFill>
          <a:blip r:embed="rId2"/>
          <a:stretch/>
        </p:blipFill>
        <p:spPr>
          <a:xfrm>
            <a:off x="15840" y="0"/>
            <a:ext cx="9112320" cy="104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3020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F913-DBE2-49AB-BC72-3F048C201B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3" descr="图片1223"/>
          <p:cNvPicPr/>
          <p:nvPr/>
        </p:nvPicPr>
        <p:blipFill>
          <a:blip r:embed="rId3"/>
          <a:stretch/>
        </p:blipFill>
        <p:spPr>
          <a:xfrm>
            <a:off x="6804000" y="6078600"/>
            <a:ext cx="208908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2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图片122"/>
          <p:cNvPicPr/>
          <p:nvPr/>
        </p:nvPicPr>
        <p:blipFill>
          <a:blip r:embed="rId1"/>
          <a:stretch/>
        </p:blipFill>
        <p:spPr>
          <a:xfrm>
            <a:off x="0" y="4541760"/>
            <a:ext cx="9144000" cy="2316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图片1223"/>
          <p:cNvPicPr/>
          <p:nvPr/>
        </p:nvPicPr>
        <p:blipFill>
          <a:blip r:embed="rId2"/>
          <a:stretch/>
        </p:blipFill>
        <p:spPr>
          <a:xfrm>
            <a:off x="179280" y="307800"/>
            <a:ext cx="2895840" cy="817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8"/>
          <p:cNvSpPr/>
          <p:nvPr/>
        </p:nvSpPr>
        <p:spPr>
          <a:xfrm>
            <a:off x="468360" y="24782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课程直播教师用户操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对摄像头的开启、话筒及音量进行控制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备准备好之后点“开始讲课”按钮，开始直播讲课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击“开始录制”，将直播内容录制下来以便以后观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图片 3" descr=""/>
          <p:cNvPicPr/>
          <p:nvPr/>
        </p:nvPicPr>
        <p:blipFill>
          <a:blip r:embed="rId1"/>
          <a:srcRect l="0" t="41347" r="0" b="0"/>
          <a:stretch/>
        </p:blipFill>
        <p:spPr>
          <a:xfrm>
            <a:off x="971640" y="2027160"/>
            <a:ext cx="2695320" cy="12574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" descr=""/>
          <p:cNvPicPr/>
          <p:nvPr/>
        </p:nvPicPr>
        <p:blipFill>
          <a:blip r:embed="rId2"/>
          <a:stretch/>
        </p:blipFill>
        <p:spPr>
          <a:xfrm>
            <a:off x="971640" y="4221000"/>
            <a:ext cx="66452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播时可以暂停直播，点击“正在讲课”按钮，就可以打开暂停直播选项，暂停后再点恢复直播按钮，恢复直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图片 4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66470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共享文档”可以进行打开文档，新建白板等操作。点击文件夹图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一个文档，文档格式主要有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。电脑上仅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没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画不支持。目前暂不支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演示动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图片 3" descr=""/>
          <p:cNvPicPr/>
          <p:nvPr/>
        </p:nvPicPr>
        <p:blipFill>
          <a:blip r:embed="rId1"/>
          <a:stretch/>
        </p:blipFill>
        <p:spPr>
          <a:xfrm>
            <a:off x="900000" y="3500280"/>
            <a:ext cx="664524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的文档学生可以同步看到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图片 4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35336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桌面共享”按钮，可以将自己在电脑上的操作过程，共享给学生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图片 4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6470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启动共享”，然后选择“桌面共享”，最后点“共享”按钮，将自己在电脑上的操作工作共享给学生。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3" descr=""/>
          <p:cNvPicPr/>
          <p:nvPr/>
        </p:nvPicPr>
        <p:blipFill>
          <a:blip r:embed="rId1"/>
          <a:stretch/>
        </p:blipFill>
        <p:spPr>
          <a:xfrm>
            <a:off x="971640" y="2852640"/>
            <a:ext cx="4734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桌面共享后，如果要停止共享，点击“停止共享”按钮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图片 4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66452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老师可以通过点击“问答列表”功能查看和回复学生提出的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图片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1246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文件下载”，可以上传本次直播相关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及其他一些素材文件，共观看直播的学生下载，如下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图片 4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664524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在直播过程中，禁止学生提问、聊天操作，点击右上角齿轮图标，如下图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35244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062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先接好话筒、摄像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浏览器中打开指定的直播地址，如下图，输入各项后点击“进入课堂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30644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教师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点击“控制选项”，在“控制选项”下级菜单中，选择“允许聊天”、“允许提问”。（有√表示启用，没有√表面禁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图片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66452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2987640" cy="500076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90216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手机进入直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3084480" cy="496872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3564000" y="4076640"/>
            <a:ext cx="2087640" cy="12240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6227640" y="1197000"/>
            <a:ext cx="2808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</a:rPr>
              <a:t>谢谢大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图片122"/>
          <p:cNvPicPr/>
          <p:nvPr/>
        </p:nvPicPr>
        <p:blipFill>
          <a:blip r:embed="rId1"/>
          <a:stretch/>
        </p:blipFill>
        <p:spPr>
          <a:xfrm>
            <a:off x="0" y="4541760"/>
            <a:ext cx="9144000" cy="231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图片1223"/>
          <p:cNvPicPr/>
          <p:nvPr/>
        </p:nvPicPr>
        <p:blipFill>
          <a:blip r:embed="rId2"/>
          <a:stretch/>
        </p:blipFill>
        <p:spPr>
          <a:xfrm>
            <a:off x="179280" y="307800"/>
            <a:ext cx="2895840" cy="817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6526080" y="3284640"/>
            <a:ext cx="24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教育信息技术中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曹守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话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731-828219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8496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1249200" y="1757520"/>
            <a:ext cx="664560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登录成功之后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图片 5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6645240" cy="25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当前电脑第一次进行直播，没有安装客户端工具，需要点击“下载启动器”按钮，下载客户端工具并进行安装，安装完成后点击“点击启动”按钮，启动客户端。客户端安装之后，以后再登录（在当前电脑上）只需点击“点击启动”按钮，启动客户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图片 6" descr=""/>
          <p:cNvPicPr/>
          <p:nvPr/>
        </p:nvPicPr>
        <p:blipFill>
          <a:blip r:embed="rId1"/>
          <a:stretch/>
        </p:blipFill>
        <p:spPr>
          <a:xfrm>
            <a:off x="8317080" y="2133720"/>
            <a:ext cx="442800" cy="2156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6645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启动成功之后界面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图片 4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66452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4032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正式直播之前要检查自己的麦克风和摄像头是否正常，点击左下角“设置”按钮，如下图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检查扬声器能否正常播放声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点击“麦克风”，检查话筒是否正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点击“视频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2714760" cy="5907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" descr=""/>
          <p:cNvPicPr/>
          <p:nvPr/>
        </p:nvPicPr>
        <p:blipFill>
          <a:blip r:embed="rId2"/>
          <a:stretch/>
        </p:blipFill>
        <p:spPr>
          <a:xfrm>
            <a:off x="4356000" y="1596960"/>
            <a:ext cx="47721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tretch/>
        </p:blipFill>
        <p:spPr>
          <a:xfrm>
            <a:off x="2209680" y="1504800"/>
            <a:ext cx="472464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2190600" y="1476360"/>
            <a:ext cx="47628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08:23:19Z</dcterms:created>
  <dc:creator>MacX.cn</dc:creator>
  <dc:description/>
  <dc:language>en-US</dc:language>
  <cp:lastModifiedBy>JSZX</cp:lastModifiedBy>
  <dcterms:modified xsi:type="dcterms:W3CDTF">2019-03-18T08:46:10Z</dcterms:modified>
  <cp:revision>814</cp:revision>
  <dc:subject/>
  <dc:title>中央广播电视大学开放教育 2009-2010年度招生工作报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