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693-C303-4C09-B149-DE34F24F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AC1-07D8-48BC-AD2C-8D4ECBB5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FF1-ACCE-448C-9E0A-1D1C6720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B57-A5E4-4631-AB97-C333E5DE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5E1-21DB-4588-B017-489AB9FF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FED-98DC-4ED6-A1DB-C47139D1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B89-9638-4D31-B705-1E51BA4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2C6-0C12-4DBC-B91C-DEEB2F0D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4360" y="348840"/>
            <a:ext cx="483372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95B-F671-453C-A66E-E3D9BC0E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168-F993-4AEB-8477-B7BD00F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7E6-FFD6-4A7E-8E4B-46FC85B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717-6442-4EEB-B732-BC266CF7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1"/>
          <p:cNvPicPr/>
          <p:nvPr/>
        </p:nvPicPr>
        <p:blipFill>
          <a:blip r:embed="rId2"/>
          <a:stretch/>
        </p:blipFill>
        <p:spPr>
          <a:xfrm>
            <a:off x="15840" y="0"/>
            <a:ext cx="9112320" cy="104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1DD2-315E-47EC-BC8D-229EBB887A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图片1223"/>
          <p:cNvPicPr/>
          <p:nvPr/>
        </p:nvPicPr>
        <p:blipFill>
          <a:blip r:embed="rId3"/>
          <a:stretch/>
        </p:blipFill>
        <p:spPr>
          <a:xfrm>
            <a:off x="6804000" y="6078600"/>
            <a:ext cx="208908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468360" y="24782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课程直播教师用户操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对摄像头的开启、话筒及音量进行控制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准备好之后点“开始讲课”按钮，开始直播讲课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“开始录制”，将直播内容录制下来以便以后观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3" descr=""/>
          <p:cNvPicPr/>
          <p:nvPr/>
        </p:nvPicPr>
        <p:blipFill>
          <a:blip r:embed="rId1"/>
          <a:srcRect l="0" t="41347" r="0" b="0"/>
          <a:stretch/>
        </p:blipFill>
        <p:spPr>
          <a:xfrm>
            <a:off x="971640" y="2027160"/>
            <a:ext cx="269532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66452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播时可以暂停直播，点击“正在讲课”按钮，就可以打开暂停直播选项，暂停后再点恢复直播按钮，恢复直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647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共享文档”可以进行打开文档，新建白板等操作。点击文件夹图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一个文档，文档格式主要有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。电脑上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没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不支持。目前暂不支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演示动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66452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的文档学生可以同步看到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533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桌面共享”按钮，可以将自己在电脑上的操作过程，共享给学生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6470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启动共享”，然后选择“桌面共享”，最后点“共享”按钮，将自己在电脑上的操作工作共享给学生。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4734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桌面共享后，如果要停止共享，点击“停止共享”按钮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6645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师可以通过点击“问答列表”功能查看和回复学生提出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124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文件下载”，可以上传本次直播相关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其他一些素材文件，共观看直播的学生下载，如下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6452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直播过程中，禁止学生提问、聊天操作，点击右上角齿轮图标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5244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062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接好话筒、摄像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浏览器中打开指定的直播地址，如下图，输入各项后点击“进入课堂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30644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师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控制选项”，在“控制选项”下级菜单中，选择“允许聊天”、“允许提问”。（有√表示启用，没有√表面禁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645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987640" cy="5000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90216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手机进入直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084480" cy="496872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3564000" y="4076640"/>
            <a:ext cx="2087640" cy="12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808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</a:rPr>
              <a:t>谢谢大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6526080" y="3284640"/>
            <a:ext cx="24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育信息技术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曹守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31-8282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8496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249200" y="1757520"/>
            <a:ext cx="66456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登录成功之后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5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664524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当前电脑第一次进行直播，没有安装客户端工具，需要点击“下载启动器”按钮，下载客户端工具并进行安装，安装完成后点击“点击启动”按钮，启动客户端。客户端安装之后，以后再登录（在当前电脑上）只需点击“点击启动”按钮，启动客户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图片 6" descr=""/>
          <p:cNvPicPr/>
          <p:nvPr/>
        </p:nvPicPr>
        <p:blipFill>
          <a:blip r:embed="rId1"/>
          <a:stretch/>
        </p:blipFill>
        <p:spPr>
          <a:xfrm>
            <a:off x="8317080" y="2133720"/>
            <a:ext cx="442800" cy="215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645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成功之后界面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6452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0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正式直播之前要检查自己的麦克风和摄像头是否正常，点击左下角“设置”按钮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检查扬声器能否正常播放声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麦克风”，检查话筒是否正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点击“视频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271476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4356000" y="1596960"/>
            <a:ext cx="4772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2209680" y="1504800"/>
            <a:ext cx="47246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2190600" y="147636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8:23:19Z</dcterms:created>
  <dc:creator>MacX.cn</dc:creator>
  <dc:description/>
  <dc:language>en-US</dc:language>
  <cp:lastModifiedBy>JSZX</cp:lastModifiedBy>
  <dcterms:modified xsi:type="dcterms:W3CDTF">2019-03-18T08:46:10Z</dcterms:modified>
  <cp:revision>814</cp:revision>
  <dc:subject/>
  <dc:title>中央广播电视大学开放教育 2009-2010年度招生工作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